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66ED-D5B3-4C64-BF3E-4E9C1B51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075-C94F-4699-A797-B5A60F25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DDD0-FCD7-4544-BBBC-22C425B0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47A6-CEF1-4DCF-8638-ACE9DF5B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03E-9EE5-45DB-98E6-A7CFD334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330A-3E7A-4DD4-B96D-B0281013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8C21-6A6B-45B9-BF13-68B355AD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DB40-DC1A-4D7A-982D-802BB830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1864-BD45-46B6-A67D-3D59D34F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C552-2585-46D5-9F5B-E4A78EFB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EFFF-C405-469E-8897-A125DCB0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8944-8816-4052-8116-7147306C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08E51-C2BC-49E5-9904-5BB571DB3C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les Strategies for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n dressing up as women and vice ve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isible sa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T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, 8 15, 16, 23, 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vid Hasselh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51600" y="1909800"/>
            <a:ext cx="4425840" cy="470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