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2"/>
          <c:y val="0.01998556998557"/>
          <c:w val="0.723174603174603"/>
          <c:h val="0.93997113997114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solidFill>
                  <a:srgbClr val="000000"/>
                </a:solidFill>
              </a:ln>
            </c:spPr>
          </c:dPt>
          <c:dPt>
            <c:idx val="1"/>
            <c:spPr>
              <a:solidFill>
                <a:srgbClr val="ff420e"/>
              </a:solidFill>
              <a:ln w="0">
                <a:solidFill>
                  <a:srgbClr val="000000"/>
                </a:solidFill>
              </a:ln>
            </c:spPr>
          </c:dPt>
          <c:dPt>
            <c:idx val="2"/>
            <c:spPr>
              <a:solidFill>
                <a:srgbClr val="ffd320"/>
              </a:solidFill>
              <a:ln w="0">
                <a:solidFill>
                  <a:srgbClr val="000000"/>
                </a:solidFill>
              </a:ln>
            </c:spPr>
          </c:dPt>
          <c:dPt>
            <c:idx val="3"/>
            <c:spPr>
              <a:solidFill>
                <a:srgbClr val="579d1c"/>
              </a:solidFill>
              <a:ln w="0">
                <a:solidFill>
                  <a:srgbClr val="000000"/>
                </a:solidFill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4"/>
                <c:pt idx="0">
                  <c:v>People I'd like to screw at this meeting</c:v>
                </c:pt>
                <c:pt idx="1">
                  <c:v>People I'd like to kill at this meeting</c:v>
                </c:pt>
                <c:pt idx="2">
                  <c:v>Mello-Yello</c:v>
                </c:pt>
                <c:pt idx="3">
                  <c:v>Awesomeness!!!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</c:v>
                </c:pt>
                <c:pt idx="1">
                  <c:v>5</c:v>
                </c:pt>
                <c:pt idx="2">
                  <c:v>3.1415</c:v>
                </c:pt>
                <c:pt idx="3">
                  <c:v>1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solidFill>
                  <a:srgbClr val="000000"/>
                </a:solidFill>
              </a:ln>
            </c:spPr>
          </c:dPt>
          <c:dPt>
            <c:idx val="1"/>
            <c:spPr>
              <a:solidFill>
                <a:srgbClr val="ff420e"/>
              </a:solidFill>
              <a:ln w="0">
                <a:solidFill>
                  <a:srgbClr val="000000"/>
                </a:solidFill>
              </a:ln>
            </c:spPr>
          </c:dPt>
          <c:dPt>
            <c:idx val="2"/>
            <c:spPr>
              <a:solidFill>
                <a:srgbClr val="ffd320"/>
              </a:solidFill>
              <a:ln w="0">
                <a:solidFill>
                  <a:srgbClr val="000000"/>
                </a:solidFill>
              </a:ln>
            </c:spPr>
          </c:dPt>
          <c:dPt>
            <c:idx val="3"/>
            <c:spPr>
              <a:solidFill>
                <a:srgbClr val="579d1c"/>
              </a:solidFill>
              <a:ln w="0">
                <a:solidFill>
                  <a:srgbClr val="000000"/>
                </a:solidFill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4"/>
                <c:pt idx="0">
                  <c:v>People I'd like to screw at this meeting</c:v>
                </c:pt>
                <c:pt idx="1">
                  <c:v>People I'd like to kill at this meeting</c:v>
                </c:pt>
                <c:pt idx="2">
                  <c:v>Mello-Yello</c:v>
                </c:pt>
                <c:pt idx="3">
                  <c:v>Awesomeness!!!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8.8</c:v>
                </c:pt>
                <c:pt idx="1">
                  <c:v>1.5</c:v>
                </c:pt>
                <c:pt idx="2">
                  <c:v>9.02</c:v>
                </c:pt>
                <c:pt idx="3">
                  <c:v>3.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000000"/>
              </a:solidFill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solidFill>
                  <a:srgbClr val="000000"/>
                </a:solidFill>
              </a:ln>
            </c:spPr>
          </c:dPt>
          <c:dPt>
            <c:idx val="1"/>
            <c:spPr>
              <a:solidFill>
                <a:srgbClr val="ff420e"/>
              </a:solidFill>
              <a:ln w="0">
                <a:solidFill>
                  <a:srgbClr val="000000"/>
                </a:solidFill>
              </a:ln>
            </c:spPr>
          </c:dPt>
          <c:dPt>
            <c:idx val="2"/>
            <c:spPr>
              <a:solidFill>
                <a:srgbClr val="ffd320"/>
              </a:solidFill>
              <a:ln w="0">
                <a:solidFill>
                  <a:srgbClr val="000000"/>
                </a:solidFill>
              </a:ln>
            </c:spPr>
          </c:dPt>
          <c:dPt>
            <c:idx val="3"/>
            <c:spPr>
              <a:solidFill>
                <a:srgbClr val="579d1c"/>
              </a:solidFill>
              <a:ln w="0">
                <a:solidFill>
                  <a:srgbClr val="000000"/>
                </a:solidFill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4"/>
                <c:pt idx="0">
                  <c:v>People I'd like to screw at this meeting</c:v>
                </c:pt>
                <c:pt idx="1">
                  <c:v>People I'd like to kill at this meeting</c:v>
                </c:pt>
                <c:pt idx="2">
                  <c:v>Mello-Yello</c:v>
                </c:pt>
                <c:pt idx="3">
                  <c:v>Awesomeness!!!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9.65</c:v>
                </c:pt>
                <c:pt idx="1">
                  <c:v>3.7</c:v>
                </c:pt>
                <c:pt idx="2">
                  <c:v>6.2</c:v>
                </c:pt>
                <c:pt idx="3">
                  <c:v>4.54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763214285714286"/>
          <c:y val="0.431601731601732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8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4A82-2CC2-4790-A53E-F8C97FE8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3A97-455B-4633-9B00-E1FB3C1F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E8B8-6303-434D-8B5A-F907FD9E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3018-393E-47FE-A827-0D9643C5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37D6-8148-4448-A063-33E9FBF2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A438-35F2-4439-A90F-28D46714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5DAD-9091-49E2-8CBC-AC8FA8E0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A296-73CD-4815-B453-D9AA8325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0134-21A8-4792-A1FC-AE061254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1B4D-7B0D-4DEA-941F-96E5094F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AA60-74CD-4613-82AE-F8CA2779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4A79-7C3E-4065-9D0D-7BF9519B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5E635-E456-4B67-BFDC-257A3D7887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wesome Pie Chart of Awesom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0280" y="1828800"/>
          <a:ext cx="9070920" cy="4989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