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01FEA-22F5-4CB0-9614-A5F0EF1CFD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C68-4029-48A1-AA91-B5232DBF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009320"/>
            <a:ext cx="7769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16E-0753-4177-9A87-ED16920F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68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A39-0B73-4F98-9CC3-09D38A13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0093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000" y="40093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920" y="40093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5C6-B04A-4FC6-851E-E48CC36F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304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480-4462-45AE-BA51-43936E3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68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4009320"/>
            <a:ext cx="7769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4009320"/>
            <a:ext cx="7769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68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40093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000" y="40093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009320"/>
            <a:ext cx="250128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236-EB73-4485-A595-D4C6F2F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30F-311A-42F5-B967-12AD97C7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118-8F18-4882-845D-D253824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04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34C-508F-4E66-B27B-5DB28A2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950-44EE-46C5-8C7D-F6EE43A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680" y="40093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EDF-1B66-4067-A9A2-88999EA7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009320"/>
            <a:ext cx="77691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184-785E-4A0F-B0DD-B1262A6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624"/>
              </a:spcBef>
              <a:buClr>
                <a:srgbClr val="ffff66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1718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DFCAE-00D4-43EE-BE5A-CA81D4178929}" type="slidenum">
              <a:rPr b="0" lang="en-GB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0" y="624816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624"/>
              </a:spcBef>
              <a:buClr>
                <a:srgbClr val="ffff66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Places I've Pooped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Rest stop in Akron, Ohio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In the woods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Sydney Opera House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At 8</a:t>
            </a:r>
            <a:r>
              <a:rPr b="0" lang="en-GB" sz="2500" spc="-1" strike="noStrike" baseline="33000">
                <a:solidFill>
                  <a:srgbClr val="ffff99"/>
                </a:solidFill>
                <a:latin typeface="Arial"/>
              </a:rPr>
              <a:t>th</a:t>
            </a: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 grade “fun night”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Midnight screening of “The Exorcist”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McDonald's off I-94 in Ann Arbor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n the dumpster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Helper</dc:creator>
  <dc:description/>
  <dc:language>en-US</dc:language>
  <cp:lastModifiedBy>Pearce</cp:lastModifiedBy>
  <cp:revision>0</cp:revision>
  <dc:subject/>
  <dc:title>Business 2 Template</dc:title>
</cp:coreProperties>
</file>