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notesMasterIdLst>
    <p:notesMasterId r:id="rId12"/>
  </p:notesMasterIdLst>
  <p:sldIdLst>
    <p:sldId id="25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notesMaster" Target="notesMasters/notesMaster1.xml"/><Relationship Id="rId13" Type="http://schemas.openxmlformats.org/officeDocument/2006/relationships/slide" Target="slides/slide1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dt" idx="21"/>
          </p:nvPr>
        </p:nvSpPr>
        <p:spPr>
          <a:xfrm>
            <a:off x="3884760" y="-36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ldImg"/>
          </p:nvPr>
        </p:nvSpPr>
        <p:spPr>
          <a:xfrm>
            <a:off x="1142640" y="685800"/>
            <a:ext cx="4568760" cy="3425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339840" indent="0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ff9553"/>
                </a:solidFill>
                <a:latin typeface="Century Gothic"/>
              </a:rPr>
              <a:t>Click to move the slide</a:t>
            </a: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 type="sldNum" idx="22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082571-B9A0-4656-A5E4-6EFFDB77E46A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AC8AB0-90B0-4D92-993D-CB65AF18F6C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636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39840" indent="0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882440"/>
            <a:ext cx="822636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6840" y="4268880"/>
            <a:ext cx="822636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A9B4A0-8FA1-4B34-A144-8AC3E8707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636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39840" indent="0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6840" y="1882440"/>
            <a:ext cx="401436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2440" y="1882440"/>
            <a:ext cx="401436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DCA729-91E0-498B-9FDC-2C014646F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636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39840" indent="0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4BA5E3-2EE8-49D6-A3F5-839D285BA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ubTitle"/>
          </p:nvPr>
        </p:nvSpPr>
        <p:spPr>
          <a:xfrm>
            <a:off x="456840" y="268200"/>
            <a:ext cx="8226360" cy="646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BC36E9-145C-414E-AC5A-4A9F02923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636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39840" indent="0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6840" y="1882440"/>
            <a:ext cx="401436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2440" y="1882440"/>
            <a:ext cx="401436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6840" y="4268880"/>
            <a:ext cx="401436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F47A94-8230-4F3A-9272-FD6BA6357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636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39840" indent="0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6840" y="1882440"/>
            <a:ext cx="401436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2440" y="1882440"/>
            <a:ext cx="401436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672440" y="4268880"/>
            <a:ext cx="401436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D19B94-DF91-4459-B6BF-EE0AF76DC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636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39840" indent="0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6840" y="1882440"/>
            <a:ext cx="401436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2440" y="1882440"/>
            <a:ext cx="401436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6840" y="4268880"/>
            <a:ext cx="822636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03E3CF-6154-4C60-9C60-2A5D8C9FB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636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39840" indent="0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6840" y="1882440"/>
            <a:ext cx="822636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56840" y="4268880"/>
            <a:ext cx="822636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DA0D6D-1123-4CE7-BA15-5912B0684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636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39840" indent="0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6840" y="1882440"/>
            <a:ext cx="401436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2440" y="1882440"/>
            <a:ext cx="401436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6840" y="4268880"/>
            <a:ext cx="401436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672440" y="4268880"/>
            <a:ext cx="401436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E46FF4-67A2-4F59-9B8F-A1860D0A1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636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39840" indent="0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6840" y="1882440"/>
            <a:ext cx="264852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3238200" y="1882440"/>
            <a:ext cx="264852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6019560" y="1882440"/>
            <a:ext cx="264852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56840" y="4268880"/>
            <a:ext cx="264852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0" name="PlaceHolder 6"/>
          <p:cNvSpPr>
            <a:spLocks noGrp="1"/>
          </p:cNvSpPr>
          <p:nvPr>
            <p:ph/>
          </p:nvPr>
        </p:nvSpPr>
        <p:spPr>
          <a:xfrm>
            <a:off x="3238200" y="4268880"/>
            <a:ext cx="264852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1" name="PlaceHolder 7"/>
          <p:cNvSpPr>
            <a:spLocks noGrp="1"/>
          </p:cNvSpPr>
          <p:nvPr>
            <p:ph/>
          </p:nvPr>
        </p:nvSpPr>
        <p:spPr>
          <a:xfrm>
            <a:off x="6019560" y="4268880"/>
            <a:ext cx="264852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F862F8-EA73-4ABC-BC4E-C8EB8FBDE03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3C8350B-1D85-4471-8031-7B1591335B0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636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39840" indent="0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882440"/>
            <a:ext cx="401436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2440" y="1882440"/>
            <a:ext cx="401436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6840" y="4268880"/>
            <a:ext cx="401436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2440" y="4268880"/>
            <a:ext cx="401436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0B15AC-393A-4C3E-A393-ACDE8EF6D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636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39840" indent="0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subTitle"/>
          </p:nvPr>
        </p:nvSpPr>
        <p:spPr>
          <a:xfrm>
            <a:off x="456840" y="1882440"/>
            <a:ext cx="8226360" cy="456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9855668-0285-4780-99AA-AF7F906A9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636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39840" indent="0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6840" y="1882440"/>
            <a:ext cx="822636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7BB1B29-A0FD-4C0E-AE2F-B0627E49F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636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39840" indent="0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6840" y="1882440"/>
            <a:ext cx="401436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2440" y="1882440"/>
            <a:ext cx="401436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32042CA-DE38-4543-AC79-786450DDF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636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39840" indent="0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8A8D46B-1977-4579-BA49-FF34DB769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ubTitle"/>
          </p:nvPr>
        </p:nvSpPr>
        <p:spPr>
          <a:xfrm>
            <a:off x="456840" y="268200"/>
            <a:ext cx="8226360" cy="646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3C68BAB-2C47-4A66-A739-2A5F70F6E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636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39840" indent="0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6840" y="1882440"/>
            <a:ext cx="401436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2440" y="1882440"/>
            <a:ext cx="401436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56840" y="4268880"/>
            <a:ext cx="401436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C091E4C-75A3-4600-B7E6-0FBABC972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636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39840" indent="0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6840" y="1882440"/>
            <a:ext cx="401436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2440" y="1882440"/>
            <a:ext cx="401436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672440" y="4268880"/>
            <a:ext cx="401436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7FE416A-5A07-49B3-AFB6-7468690D7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636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39840" indent="0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6840" y="1882440"/>
            <a:ext cx="401436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2440" y="1882440"/>
            <a:ext cx="401436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6840" y="4268880"/>
            <a:ext cx="822636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AAF980A-8AA4-4ED7-BA03-8F8C83253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636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39840" indent="0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6840" y="1882440"/>
            <a:ext cx="822636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56840" y="4268880"/>
            <a:ext cx="822636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D941107-74CD-4F23-8221-EF6444DE1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636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39840" indent="0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6840" y="1882440"/>
            <a:ext cx="401436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2440" y="1882440"/>
            <a:ext cx="401436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6840" y="4268880"/>
            <a:ext cx="401436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672440" y="4268880"/>
            <a:ext cx="401436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7625DD9-46DD-41F1-B193-FB1E80BC7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636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39840" indent="0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6840" y="1882440"/>
            <a:ext cx="264852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8200" y="1882440"/>
            <a:ext cx="264852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19560" y="1882440"/>
            <a:ext cx="264852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6840" y="4268880"/>
            <a:ext cx="264852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8200" y="4268880"/>
            <a:ext cx="264852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19560" y="4268880"/>
            <a:ext cx="264852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0542D3-F373-4F3C-B027-98A3017CB6B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636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39840" indent="0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6840" y="1882440"/>
            <a:ext cx="264852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3238200" y="1882440"/>
            <a:ext cx="264852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019560" y="1882440"/>
            <a:ext cx="264852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456840" y="4268880"/>
            <a:ext cx="264852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1" name="PlaceHolder 6"/>
          <p:cNvSpPr>
            <a:spLocks noGrp="1"/>
          </p:cNvSpPr>
          <p:nvPr>
            <p:ph/>
          </p:nvPr>
        </p:nvSpPr>
        <p:spPr>
          <a:xfrm>
            <a:off x="3238200" y="4268880"/>
            <a:ext cx="264852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2" name="PlaceHolder 7"/>
          <p:cNvSpPr>
            <a:spLocks noGrp="1"/>
          </p:cNvSpPr>
          <p:nvPr>
            <p:ph/>
          </p:nvPr>
        </p:nvSpPr>
        <p:spPr>
          <a:xfrm>
            <a:off x="6019560" y="4268880"/>
            <a:ext cx="264852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27A30C8-F7A3-44DD-8C94-B1852200B1A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DEF5D8-E9F0-4926-A3A4-65B50EAFFE3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636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39840" indent="0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6840" y="1882440"/>
            <a:ext cx="8226360" cy="456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025252-3F17-42B8-BD3A-D694D2BF5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636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39840" indent="0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882440"/>
            <a:ext cx="822636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065F73-0AC8-42C9-9C12-38088347F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636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39840" indent="0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2440"/>
            <a:ext cx="401436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2440" y="1882440"/>
            <a:ext cx="401436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17D1B1-7FE0-4DB3-A209-44AE75ED2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636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39840" indent="0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804C9C-1F9D-4452-9BCE-75EB1BB76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6840" y="268200"/>
            <a:ext cx="8226360" cy="646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F594C7-AD31-4550-86F8-07589ED5F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636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39840" indent="0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882440"/>
            <a:ext cx="401436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2440" y="1882440"/>
            <a:ext cx="401436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68880"/>
            <a:ext cx="401436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A08BC3-7F5A-40DA-9F52-024EAEDF8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636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39840" indent="0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6840" y="1882440"/>
            <a:ext cx="8226360" cy="456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725CBD-C8BC-4E59-A153-9A7DD6EFF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636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39840" indent="0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882440"/>
            <a:ext cx="401436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2440" y="1882440"/>
            <a:ext cx="401436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2440" y="4268880"/>
            <a:ext cx="401436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1AF1B8-E62D-49CC-849E-81A7F4992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636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39840" indent="0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882440"/>
            <a:ext cx="401436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2440" y="1882440"/>
            <a:ext cx="401436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268880"/>
            <a:ext cx="822636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3F3ED0-A6CD-4496-9F73-E7F2B533C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636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39840" indent="0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882440"/>
            <a:ext cx="822636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6840" y="4268880"/>
            <a:ext cx="822636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82F64C-1DEF-45B1-8DB2-B788DE4E4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636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39840" indent="0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2440"/>
            <a:ext cx="401436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2440" y="1882440"/>
            <a:ext cx="401436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268880"/>
            <a:ext cx="401436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2440" y="4268880"/>
            <a:ext cx="401436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6FD2C4-5395-4C6C-937E-1292218EB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636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39840" indent="0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1882440"/>
            <a:ext cx="264852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8200" y="1882440"/>
            <a:ext cx="264852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19560" y="1882440"/>
            <a:ext cx="264852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6840" y="4268880"/>
            <a:ext cx="264852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8200" y="4268880"/>
            <a:ext cx="264852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19560" y="4268880"/>
            <a:ext cx="264852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3E44CF-5DAA-40B6-80D7-7D44DCF85C0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08448-48C1-4AB1-A58D-826F2DDDCD7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636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39840" indent="0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6840" y="1882440"/>
            <a:ext cx="8226360" cy="456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A743A-C06A-4648-97C5-2B214F92F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636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39840" indent="0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882440"/>
            <a:ext cx="822636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7760B-3265-43DA-8C80-ACB773E86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636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39840" indent="0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882440"/>
            <a:ext cx="401436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2440" y="1882440"/>
            <a:ext cx="401436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5768C-5DC2-41FC-8A7E-B8AACFD6A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636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39840" indent="0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1F312-2353-4424-8E28-08262307F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636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39840" indent="0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2440"/>
            <a:ext cx="822636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EEE6C7-B33B-4DF2-B0AA-536E3B669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6840" y="268200"/>
            <a:ext cx="8226360" cy="646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77CCB-B6E0-4A75-A6C1-229558C00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636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39840" indent="0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882440"/>
            <a:ext cx="401436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2440" y="1882440"/>
            <a:ext cx="401436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6840" y="4268880"/>
            <a:ext cx="401436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4FF7E-7D4A-4ABF-AD98-FDBD09346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636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39840" indent="0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882440"/>
            <a:ext cx="401436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2440" y="1882440"/>
            <a:ext cx="401436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2440" y="4268880"/>
            <a:ext cx="401436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4C37F-BB77-40C6-B55F-A6E902F3A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636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39840" indent="0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882440"/>
            <a:ext cx="401436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2440" y="1882440"/>
            <a:ext cx="401436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6840" y="4268880"/>
            <a:ext cx="822636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E487F-0D7D-4231-9596-307931957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636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39840" indent="0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882440"/>
            <a:ext cx="822636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6840" y="4268880"/>
            <a:ext cx="822636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384B5-1C07-4644-90D1-8ECFEC2B3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636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39840" indent="0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882440"/>
            <a:ext cx="401436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2440" y="1882440"/>
            <a:ext cx="401436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6840" y="4268880"/>
            <a:ext cx="401436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2440" y="4268880"/>
            <a:ext cx="401436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7A497-FA4C-44BB-BDCC-15178828F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636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39840" indent="0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882440"/>
            <a:ext cx="264852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8200" y="1882440"/>
            <a:ext cx="264852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19560" y="1882440"/>
            <a:ext cx="264852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6840" y="4268880"/>
            <a:ext cx="264852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8200" y="4268880"/>
            <a:ext cx="264852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19560" y="4268880"/>
            <a:ext cx="264852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449EE-3198-4EEC-8667-818A7A8CFBC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C200D8C-C166-4C0B-8ECB-0E5B6996F8F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636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39840" indent="0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6840" y="1882440"/>
            <a:ext cx="8226360" cy="456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093001D-9D2B-42BA-B985-60493066D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636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39840" indent="0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882440"/>
            <a:ext cx="822636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5A7F038-7C7B-4EBE-9876-68371A19C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636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39840" indent="0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6840" y="1882440"/>
            <a:ext cx="401436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2440" y="1882440"/>
            <a:ext cx="401436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875C9D-2A06-4C29-A426-E1903F5F2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636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39840" indent="0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882440"/>
            <a:ext cx="401436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2440" y="1882440"/>
            <a:ext cx="401436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FDDAE93-B113-4241-AA95-B59DCC276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636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39840" indent="0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F65DB65-FEE3-4FFC-BC8B-476CC2F18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6840" y="268200"/>
            <a:ext cx="8226360" cy="646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662EC99-39C1-4878-A547-A870180DF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636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39840" indent="0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882440"/>
            <a:ext cx="401436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2440" y="1882440"/>
            <a:ext cx="401436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4268880"/>
            <a:ext cx="401436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20224CC-7135-4FDC-9629-813DDF898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636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39840" indent="0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882440"/>
            <a:ext cx="401436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2440" y="1882440"/>
            <a:ext cx="401436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2440" y="4268880"/>
            <a:ext cx="401436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5F108E1-6E88-4787-915D-1BC57E4A7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636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39840" indent="0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6840" y="1882440"/>
            <a:ext cx="401436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2440" y="1882440"/>
            <a:ext cx="401436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6840" y="4268880"/>
            <a:ext cx="822636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EE4DDA-8B61-4474-B352-8739E3852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636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39840" indent="0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882440"/>
            <a:ext cx="822636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6840" y="4268880"/>
            <a:ext cx="822636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13E0A4C-9163-44DF-B3F0-158F68639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636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39840" indent="0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882440"/>
            <a:ext cx="401436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2440" y="1882440"/>
            <a:ext cx="401436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6840" y="4268880"/>
            <a:ext cx="401436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2440" y="4268880"/>
            <a:ext cx="401436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2639F3B-DA74-4E6F-9579-84BB5446D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636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39840" indent="0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6840" y="1882440"/>
            <a:ext cx="264852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8200" y="1882440"/>
            <a:ext cx="264852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19560" y="1882440"/>
            <a:ext cx="264852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6840" y="4268880"/>
            <a:ext cx="264852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8200" y="4268880"/>
            <a:ext cx="264852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19560" y="4268880"/>
            <a:ext cx="264852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096FFE8-DB99-4F8F-998C-84BA67AE670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11EA8A4-6556-4492-A0B8-5DBD5590A09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636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39840" indent="0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22752F-540A-4C1B-8964-443E44C85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636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39840" indent="0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6840" y="1882440"/>
            <a:ext cx="8226360" cy="456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8200CD2-C801-4BF1-8696-C4175D764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636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39840" indent="0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882440"/>
            <a:ext cx="822636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F66B07F-F68E-43C4-AFF4-69E475317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636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39840" indent="0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882440"/>
            <a:ext cx="401436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2440" y="1882440"/>
            <a:ext cx="401436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B473911-5100-4CDE-AA59-16B8022BA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636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39840" indent="0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C6B5E38-624B-496D-B79B-28FB6601A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6840" y="268200"/>
            <a:ext cx="8226360" cy="646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E373325-FE9B-44E3-82D5-36F4DE2B1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636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39840" indent="0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882440"/>
            <a:ext cx="401436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2440" y="1882440"/>
            <a:ext cx="401436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6840" y="4268880"/>
            <a:ext cx="401436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70D565C-9CAC-49B5-9490-100331282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636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39840" indent="0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882440"/>
            <a:ext cx="401436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2440" y="1882440"/>
            <a:ext cx="401436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672440" y="4268880"/>
            <a:ext cx="401436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4C40FAE-C5ED-4B2B-A2B1-451EA9BD6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636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39840" indent="0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882440"/>
            <a:ext cx="401436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2440" y="1882440"/>
            <a:ext cx="401436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6840" y="4268880"/>
            <a:ext cx="822636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8C5373C-23BE-4816-8D94-1DFA3762C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636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39840" indent="0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882440"/>
            <a:ext cx="822636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6840" y="4268880"/>
            <a:ext cx="822636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774D455-7EA5-4A11-A12A-3E86EA77C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636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39840" indent="0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882440"/>
            <a:ext cx="401436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2440" y="1882440"/>
            <a:ext cx="401436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6840" y="4268880"/>
            <a:ext cx="401436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672440" y="4268880"/>
            <a:ext cx="401436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630F005-BF48-4DCD-A7FE-814FCB56E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6840" y="268200"/>
            <a:ext cx="8226360" cy="646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FA827C-D7FF-47C6-98EA-5D94D622A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636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39840" indent="0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6840" y="1882440"/>
            <a:ext cx="264852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238200" y="1882440"/>
            <a:ext cx="264852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19560" y="1882440"/>
            <a:ext cx="264852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6840" y="4268880"/>
            <a:ext cx="264852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238200" y="4268880"/>
            <a:ext cx="264852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019560" y="4268880"/>
            <a:ext cx="264852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1EA417C-3D0F-4640-A2C1-D34E51A929C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09B5F2-F6FD-4CE1-B9C1-A8966BACBF6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636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39840" indent="0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6840" y="1882440"/>
            <a:ext cx="8226360" cy="456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89E1A4-4D49-4ADD-88B7-88CA382DF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636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39840" indent="0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6840" y="1882440"/>
            <a:ext cx="822636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FB9485-B0EE-44BD-ACF8-A39BD0565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636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39840" indent="0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882440"/>
            <a:ext cx="401436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2440" y="1882440"/>
            <a:ext cx="401436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F0E706-00CA-448B-9F18-CD98772B2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636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39840" indent="0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5B02BF-1024-4E31-B049-F018908F6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6840" y="268200"/>
            <a:ext cx="8226360" cy="646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69575E-7795-4886-B4E5-3F7689708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636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39840" indent="0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882440"/>
            <a:ext cx="401436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2440" y="1882440"/>
            <a:ext cx="401436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268880"/>
            <a:ext cx="401436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717BAB-CE0F-4DCF-84FA-C7FA0F266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636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39840" indent="0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882440"/>
            <a:ext cx="401436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2440" y="1882440"/>
            <a:ext cx="401436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2440" y="4268880"/>
            <a:ext cx="401436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98F19B-4B75-4E97-9099-56E51350F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636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39840" indent="0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6840" y="1882440"/>
            <a:ext cx="401436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2440" y="1882440"/>
            <a:ext cx="401436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6840" y="4268880"/>
            <a:ext cx="822636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3B19E8-EE75-4EF9-80ED-76D000257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636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39840" indent="0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6840" y="1882440"/>
            <a:ext cx="401436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2440" y="1882440"/>
            <a:ext cx="401436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6840" y="4268880"/>
            <a:ext cx="401436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1C2AE5-A2FC-4D58-B21E-8804F2CDC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636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39840" indent="0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882440"/>
            <a:ext cx="822636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6840" y="4268880"/>
            <a:ext cx="822636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79BA0D-F1B8-4798-B38A-284B37139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636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39840" indent="0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6840" y="1882440"/>
            <a:ext cx="401436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2440" y="1882440"/>
            <a:ext cx="401436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6840" y="4268880"/>
            <a:ext cx="401436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2440" y="4268880"/>
            <a:ext cx="401436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772A3F-595A-434A-8CEB-326617D00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636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39840" indent="0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6840" y="1882440"/>
            <a:ext cx="264852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8200" y="1882440"/>
            <a:ext cx="264852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19560" y="1882440"/>
            <a:ext cx="264852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6840" y="4268880"/>
            <a:ext cx="264852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8200" y="4268880"/>
            <a:ext cx="264852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19560" y="4268880"/>
            <a:ext cx="264852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3E4449-6574-4A26-95B1-32C748B6CC1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EDA6F52-CE6A-4281-AC6F-E9A76A2B091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636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39840" indent="0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456840" y="1882440"/>
            <a:ext cx="8226360" cy="456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CE65EAC-47D1-45B1-A417-1184C958F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636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39840" indent="0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6840" y="1882440"/>
            <a:ext cx="822636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87F6E8B-E9AA-42F2-9936-25BAEEF0C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636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39840" indent="0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6840" y="1882440"/>
            <a:ext cx="401436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2440" y="1882440"/>
            <a:ext cx="401436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B73ED6B-CBBA-4D41-BD84-ED2A62068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636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39840" indent="0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A357601-50F1-4F6C-8102-892D3E9B9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456840" y="268200"/>
            <a:ext cx="8226360" cy="646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693B9C2-35D3-40AC-9444-A5FD0572B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636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39840" indent="0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882440"/>
            <a:ext cx="401436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2440" y="1882440"/>
            <a:ext cx="401436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6840" y="4268880"/>
            <a:ext cx="401436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0A42495-F49F-4233-9874-3F83EE781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636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39840" indent="0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6840" y="1882440"/>
            <a:ext cx="401436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2440" y="1882440"/>
            <a:ext cx="401436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2440" y="4268880"/>
            <a:ext cx="401436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2C134F-9C49-4FE4-B984-596777FEB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636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39840" indent="0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882440"/>
            <a:ext cx="401436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2440" y="1882440"/>
            <a:ext cx="401436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672440" y="4268880"/>
            <a:ext cx="401436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65E8249-1A72-4BBE-9328-BECD70EE4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636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39840" indent="0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882440"/>
            <a:ext cx="401436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2440" y="1882440"/>
            <a:ext cx="401436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6840" y="4268880"/>
            <a:ext cx="822636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73B8B8D-E997-4BA1-838C-A740DE9C1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636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39840" indent="0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6840" y="1882440"/>
            <a:ext cx="822636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56840" y="4268880"/>
            <a:ext cx="822636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B227278-7B82-48FD-8287-A5C036B52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636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39840" indent="0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6840" y="1882440"/>
            <a:ext cx="401436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2440" y="1882440"/>
            <a:ext cx="401436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6840" y="4268880"/>
            <a:ext cx="401436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672440" y="4268880"/>
            <a:ext cx="401436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28824F2-1A3A-4E74-9755-CDC6D20FA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636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39840" indent="0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6840" y="1882440"/>
            <a:ext cx="264852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238200" y="1882440"/>
            <a:ext cx="264852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019560" y="1882440"/>
            <a:ext cx="264852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56840" y="4268880"/>
            <a:ext cx="264852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238200" y="4268880"/>
            <a:ext cx="264852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6019560" y="4268880"/>
            <a:ext cx="264852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4F52D16-EE40-4DBF-AF60-150823B4410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4FB86E1-9BD7-45D5-B5E1-8AE20367FA1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636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39840" indent="0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882440"/>
            <a:ext cx="8226360" cy="456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035DB41-D4E2-46A1-BBC0-024707D43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636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39840" indent="0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882440"/>
            <a:ext cx="822636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6B09860-A639-40D0-ABB9-4F4034406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636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39840" indent="0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882440"/>
            <a:ext cx="401436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2440" y="1882440"/>
            <a:ext cx="401436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EA0CCE2-090A-4525-B7F1-7ECA2DC5B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636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39840" indent="0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1DA094A-27AD-4157-944F-08ADE41AA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636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39840" indent="0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6840" y="1882440"/>
            <a:ext cx="401436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2440" y="1882440"/>
            <a:ext cx="401436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6840" y="4268880"/>
            <a:ext cx="822636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A2640C-D751-4123-A73D-00044BB4F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68200"/>
            <a:ext cx="8226360" cy="646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8370E39-2BB1-46EC-BB63-8EBFAB0BF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636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39840" indent="0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882440"/>
            <a:ext cx="401436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2440" y="1882440"/>
            <a:ext cx="401436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268880"/>
            <a:ext cx="401436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5F940F4-367A-4C3F-85C2-E9167C3F2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636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39840" indent="0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882440"/>
            <a:ext cx="401436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2440" y="1882440"/>
            <a:ext cx="401436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672440" y="4268880"/>
            <a:ext cx="401436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BDFD421-83BB-43D4-8136-C49CA52CA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636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39840" indent="0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882440"/>
            <a:ext cx="401436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2440" y="1882440"/>
            <a:ext cx="401436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268880"/>
            <a:ext cx="822636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E9D521B-C3D9-4E9E-B81D-FA5F37B84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636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39840" indent="0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882440"/>
            <a:ext cx="822636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268880"/>
            <a:ext cx="822636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E2BFE7C-8245-40F2-B567-A85134124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636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39840" indent="0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882440"/>
            <a:ext cx="401436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2440" y="1882440"/>
            <a:ext cx="401436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268880"/>
            <a:ext cx="401436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672440" y="4268880"/>
            <a:ext cx="401436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87BF3A7-B0EF-4EF3-8006-50C7DC9AA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636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39840" indent="0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882440"/>
            <a:ext cx="264852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238200" y="1882440"/>
            <a:ext cx="264852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019560" y="1882440"/>
            <a:ext cx="264852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268880"/>
            <a:ext cx="264852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238200" y="4268880"/>
            <a:ext cx="264852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6019560" y="4268880"/>
            <a:ext cx="264852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3B191DA-A4C7-42EF-B781-0817AE48982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033F22-F13F-476D-ACCD-E35A9B623CD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636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39840" indent="0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subTitle"/>
          </p:nvPr>
        </p:nvSpPr>
        <p:spPr>
          <a:xfrm>
            <a:off x="456840" y="1882440"/>
            <a:ext cx="8226360" cy="456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702CA3-2981-4976-97DD-D036F5D73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636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39840" indent="0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6840" y="1882440"/>
            <a:ext cx="822636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E29B17-6416-42B7-9644-D79A584F1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21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ffffff"/>
              </a:gs>
              <a:gs pos="100000">
                <a:srgbClr val="ffffff">
                  <a:alpha val="117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w="5040">
            <a:solidFill>
              <a:srgbClr val="b6b6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 flipH="1">
            <a:off x="6465600" y="4948200"/>
            <a:ext cx="2679480" cy="1900440"/>
          </a:xfrm>
          <a:prstGeom prst="line">
            <a:avLst/>
          </a:prstGeom>
          <a:ln w="6120">
            <a:solidFill>
              <a:srgbClr val="bebeb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636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39840" indent="0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ff955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6840" y="1882440"/>
            <a:ext cx="822636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8000"/>
              </a:lnSpc>
              <a:spcBef>
                <a:spcPts val="751"/>
              </a:spcBef>
              <a:buClr>
                <a:srgbClr val="f07f09"/>
              </a:buClr>
              <a:buSzPct val="80000"/>
              <a:buFont typeface="Wingdings 2" charset="2"/>
              <a:buChar char="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739800" indent="-282600">
              <a:lnSpc>
                <a:spcPct val="98000"/>
              </a:lnSpc>
              <a:spcBef>
                <a:spcPts val="751"/>
              </a:spcBef>
              <a:buClr>
                <a:srgbClr val="f07f09"/>
              </a:buClr>
              <a:buSzPct val="95000"/>
              <a:buFont typeface="Verdana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lnSpc>
                <a:spcPct val="98000"/>
              </a:lnSpc>
              <a:spcBef>
                <a:spcPts val="751"/>
              </a:spcBef>
              <a:buClr>
                <a:srgbClr val="f07f09"/>
              </a:buClr>
              <a:buFont typeface="Wingdings 2" charset="2"/>
              <a:buChar char="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lnSpc>
                <a:spcPct val="98000"/>
              </a:lnSpc>
              <a:spcBef>
                <a:spcPts val="751"/>
              </a:spcBef>
              <a:buClr>
                <a:srgbClr val="f07f09"/>
              </a:buClr>
              <a:buFont typeface="Wingdings 2" charset="2"/>
              <a:buChar char="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lnSpc>
                <a:spcPct val="98000"/>
              </a:lnSpc>
              <a:spcBef>
                <a:spcPts val="751"/>
              </a:spcBef>
              <a:buClr>
                <a:srgbClr val="f07f09"/>
              </a:buClr>
              <a:buFont typeface="Wingdings 2" charset="2"/>
              <a:buChar char="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lnSpc>
                <a:spcPct val="98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lnSpc>
                <a:spcPct val="98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0880" y="6481440"/>
            <a:ext cx="213012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000" spc="-1" strike="noStrike">
                <a:solidFill>
                  <a:srgbClr val="58dde4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58dde4"/>
                </a:solidFill>
                <a:latin typeface="Century Gothic"/>
              </a:rPr>
              <a:t>11/14/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323040"/>
            <a:ext cx="42591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2"/>
          </p:nvPr>
        </p:nvSpPr>
        <p:spPr>
          <a:xfrm>
            <a:off x="7589520" y="6481440"/>
            <a:ext cx="50004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58dde4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6D717B-6151-4B48-A4F2-21EBA0F3AB6B}" type="slidenum">
              <a:rPr b="0" lang="en-GB" sz="1200" spc="-1" strike="noStrike">
                <a:solidFill>
                  <a:srgbClr val="58dde4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636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39840" indent="0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ff955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456840" y="1882440"/>
            <a:ext cx="822636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8000"/>
              </a:lnSpc>
              <a:spcBef>
                <a:spcPts val="751"/>
              </a:spcBef>
              <a:buClr>
                <a:srgbClr val="f07f09"/>
              </a:buClr>
              <a:buSzPct val="80000"/>
              <a:buFont typeface="Wingdings 2" charset="2"/>
              <a:buChar char="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739800" indent="-282600">
              <a:lnSpc>
                <a:spcPct val="98000"/>
              </a:lnSpc>
              <a:spcBef>
                <a:spcPts val="751"/>
              </a:spcBef>
              <a:buClr>
                <a:srgbClr val="f07f09"/>
              </a:buClr>
              <a:buSzPct val="95000"/>
              <a:buFont typeface="Verdana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lnSpc>
                <a:spcPct val="98000"/>
              </a:lnSpc>
              <a:spcBef>
                <a:spcPts val="751"/>
              </a:spcBef>
              <a:buClr>
                <a:srgbClr val="f07f09"/>
              </a:buClr>
              <a:buFont typeface="Wingdings 2" charset="2"/>
              <a:buChar char="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lnSpc>
                <a:spcPct val="98000"/>
              </a:lnSpc>
              <a:spcBef>
                <a:spcPts val="751"/>
              </a:spcBef>
              <a:buClr>
                <a:srgbClr val="f07f09"/>
              </a:buClr>
              <a:buFont typeface="Wingdings 2" charset="2"/>
              <a:buChar char="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lnSpc>
                <a:spcPct val="98000"/>
              </a:lnSpc>
              <a:spcBef>
                <a:spcPts val="751"/>
              </a:spcBef>
              <a:buClr>
                <a:srgbClr val="f07f09"/>
              </a:buClr>
              <a:buFont typeface="Wingdings 2" charset="2"/>
              <a:buChar char="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lnSpc>
                <a:spcPct val="98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lnSpc>
                <a:spcPct val="98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 type="dt" idx="19"/>
          </p:nvPr>
        </p:nvSpPr>
        <p:spPr>
          <a:xfrm>
            <a:off x="6108480" y="6555960"/>
            <a:ext cx="209844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0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Century Gothic"/>
              </a:rPr>
              <a:t>11/14/0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6399360"/>
            <a:ext cx="49482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sldNum" idx="20"/>
          </p:nvPr>
        </p:nvSpPr>
        <p:spPr>
          <a:xfrm>
            <a:off x="8217000" y="6555960"/>
            <a:ext cx="36360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F7504A6-3E9F-40CC-8280-3BB4EE591934}" type="slidenum">
              <a:rPr b="0" lang="en-GB" sz="9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21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ffffff"/>
              </a:gs>
              <a:gs pos="100000">
                <a:srgbClr val="ffffff">
                  <a:alpha val="117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w="5040">
            <a:solidFill>
              <a:srgbClr val="b6b6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465600" y="4948200"/>
            <a:ext cx="2679480" cy="1900440"/>
          </a:xfrm>
          <a:prstGeom prst="line">
            <a:avLst/>
          </a:prstGeom>
          <a:ln w="6120">
            <a:solidFill>
              <a:srgbClr val="bebeb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636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39840" indent="0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ff955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6840" y="1882440"/>
            <a:ext cx="822636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8000"/>
              </a:lnSpc>
              <a:spcBef>
                <a:spcPts val="751"/>
              </a:spcBef>
              <a:buClr>
                <a:srgbClr val="f07f09"/>
              </a:buClr>
              <a:buSzPct val="80000"/>
              <a:buFont typeface="Wingdings 2" charset="2"/>
              <a:buChar char="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739800" indent="-282600">
              <a:lnSpc>
                <a:spcPct val="98000"/>
              </a:lnSpc>
              <a:spcBef>
                <a:spcPts val="751"/>
              </a:spcBef>
              <a:buClr>
                <a:srgbClr val="f07f09"/>
              </a:buClr>
              <a:buSzPct val="95000"/>
              <a:buFont typeface="Verdana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lnSpc>
                <a:spcPct val="98000"/>
              </a:lnSpc>
              <a:spcBef>
                <a:spcPts val="751"/>
              </a:spcBef>
              <a:buClr>
                <a:srgbClr val="f07f09"/>
              </a:buClr>
              <a:buFont typeface="Wingdings 2" charset="2"/>
              <a:buChar char="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lnSpc>
                <a:spcPct val="98000"/>
              </a:lnSpc>
              <a:spcBef>
                <a:spcPts val="751"/>
              </a:spcBef>
              <a:buClr>
                <a:srgbClr val="f07f09"/>
              </a:buClr>
              <a:buFont typeface="Wingdings 2" charset="2"/>
              <a:buChar char="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lnSpc>
                <a:spcPct val="98000"/>
              </a:lnSpc>
              <a:spcBef>
                <a:spcPts val="751"/>
              </a:spcBef>
              <a:buClr>
                <a:srgbClr val="f07f09"/>
              </a:buClr>
              <a:buFont typeface="Wingdings 2" charset="2"/>
              <a:buChar char="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lnSpc>
                <a:spcPct val="98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lnSpc>
                <a:spcPct val="98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"/>
          <p:cNvSpPr/>
          <p:nvPr/>
        </p:nvSpPr>
        <p:spPr>
          <a:xfrm rot="16200000">
            <a:off x="7553880" y="5254920"/>
            <a:ext cx="189252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14700"/>
              </a:gs>
              <a:gs pos="100000">
                <a:srgbClr val="ffa066"/>
              </a:gs>
            </a:gsLst>
            <a:lin ang="154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3"/>
          </p:nvPr>
        </p:nvSpPr>
        <p:spPr>
          <a:xfrm>
            <a:off x="1371600" y="6011640"/>
            <a:ext cx="57880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entury Gothic"/>
              </a:rPr>
              <a:t>11/14/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371600" y="5648400"/>
            <a:ext cx="5791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8391240" y="5752800"/>
            <a:ext cx="50004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3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A9F51A-6A21-4B14-973C-24F3B2DF4AE0}" type="slidenum">
              <a:rPr b="0" lang="en-GB" sz="13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21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ffffff"/>
              </a:gs>
              <a:gs pos="100000">
                <a:srgbClr val="ffffff">
                  <a:alpha val="117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w="5040">
            <a:solidFill>
              <a:srgbClr val="b6b6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6465600" y="4948200"/>
            <a:ext cx="2679480" cy="1900440"/>
          </a:xfrm>
          <a:prstGeom prst="line">
            <a:avLst/>
          </a:prstGeom>
          <a:ln w="6120">
            <a:solidFill>
              <a:srgbClr val="bebeb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636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39840" indent="0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ff955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6840" y="1882440"/>
            <a:ext cx="822636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8000"/>
              </a:lnSpc>
              <a:spcBef>
                <a:spcPts val="751"/>
              </a:spcBef>
              <a:buClr>
                <a:srgbClr val="f07f09"/>
              </a:buClr>
              <a:buSzPct val="80000"/>
              <a:buFont typeface="Wingdings 2" charset="2"/>
              <a:buChar char="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739800" indent="-282600">
              <a:lnSpc>
                <a:spcPct val="98000"/>
              </a:lnSpc>
              <a:spcBef>
                <a:spcPts val="751"/>
              </a:spcBef>
              <a:buClr>
                <a:srgbClr val="f07f09"/>
              </a:buClr>
              <a:buSzPct val="95000"/>
              <a:buFont typeface="Verdana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lnSpc>
                <a:spcPct val="98000"/>
              </a:lnSpc>
              <a:spcBef>
                <a:spcPts val="751"/>
              </a:spcBef>
              <a:buClr>
                <a:srgbClr val="f07f09"/>
              </a:buClr>
              <a:buFont typeface="Wingdings 2" charset="2"/>
              <a:buChar char="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lnSpc>
                <a:spcPct val="98000"/>
              </a:lnSpc>
              <a:spcBef>
                <a:spcPts val="751"/>
              </a:spcBef>
              <a:buClr>
                <a:srgbClr val="f07f09"/>
              </a:buClr>
              <a:buFont typeface="Wingdings 2" charset="2"/>
              <a:buChar char="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lnSpc>
                <a:spcPct val="98000"/>
              </a:lnSpc>
              <a:spcBef>
                <a:spcPts val="751"/>
              </a:spcBef>
              <a:buClr>
                <a:srgbClr val="f07f09"/>
              </a:buClr>
              <a:buFont typeface="Wingdings 2" charset="2"/>
              <a:buChar char="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lnSpc>
                <a:spcPct val="98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lnSpc>
                <a:spcPct val="98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5"/>
          </p:nvPr>
        </p:nvSpPr>
        <p:spPr>
          <a:xfrm>
            <a:off x="4790880" y="6480000"/>
            <a:ext cx="2130120" cy="2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entury Gothic"/>
              </a:rPr>
              <a:t>11/14/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57200" y="6321600"/>
            <a:ext cx="42591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sldNum" idx="6"/>
          </p:nvPr>
        </p:nvSpPr>
        <p:spPr>
          <a:xfrm>
            <a:off x="7589520" y="6481440"/>
            <a:ext cx="50004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F45973F-9AC9-4E63-862F-08AB2B0CA26F}" type="slidenum">
              <a:rPr b="0" lang="en-GB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636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39840" indent="0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ff955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456840" y="1882440"/>
            <a:ext cx="822636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8000"/>
              </a:lnSpc>
              <a:spcBef>
                <a:spcPts val="751"/>
              </a:spcBef>
              <a:buClr>
                <a:srgbClr val="f07f09"/>
              </a:buClr>
              <a:buSzPct val="80000"/>
              <a:buFont typeface="Wingdings 2" charset="2"/>
              <a:buChar char="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739800" indent="-282600">
              <a:lnSpc>
                <a:spcPct val="98000"/>
              </a:lnSpc>
              <a:spcBef>
                <a:spcPts val="751"/>
              </a:spcBef>
              <a:buClr>
                <a:srgbClr val="f07f09"/>
              </a:buClr>
              <a:buSzPct val="95000"/>
              <a:buFont typeface="Verdana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lnSpc>
                <a:spcPct val="98000"/>
              </a:lnSpc>
              <a:spcBef>
                <a:spcPts val="751"/>
              </a:spcBef>
              <a:buClr>
                <a:srgbClr val="f07f09"/>
              </a:buClr>
              <a:buFont typeface="Wingdings 2" charset="2"/>
              <a:buChar char="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lnSpc>
                <a:spcPct val="98000"/>
              </a:lnSpc>
              <a:spcBef>
                <a:spcPts val="751"/>
              </a:spcBef>
              <a:buClr>
                <a:srgbClr val="f07f09"/>
              </a:buClr>
              <a:buFont typeface="Wingdings 2" charset="2"/>
              <a:buChar char="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lnSpc>
                <a:spcPct val="98000"/>
              </a:lnSpc>
              <a:spcBef>
                <a:spcPts val="751"/>
              </a:spcBef>
              <a:buClr>
                <a:srgbClr val="f07f09"/>
              </a:buClr>
              <a:buFont typeface="Wingdings 2" charset="2"/>
              <a:buChar char="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lnSpc>
                <a:spcPct val="98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lnSpc>
                <a:spcPct val="98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5" name=""/>
          <p:cNvSpPr/>
          <p:nvPr/>
        </p:nvSpPr>
        <p:spPr>
          <a:xfrm flipV="1" rot="5400000">
            <a:off x="7554240" y="310320"/>
            <a:ext cx="18921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14700"/>
              </a:gs>
              <a:gs pos="100000">
                <a:srgbClr val="ffa066"/>
              </a:gs>
            </a:gsLst>
            <a:lin ang="154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ffffff"/>
              </a:gs>
              <a:gs pos="100000">
                <a:srgbClr val="ffffff">
                  <a:alpha val="117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H="1" flipV="1">
            <a:off x="6465600" y="6480"/>
            <a:ext cx="2679480" cy="1906560"/>
          </a:xfrm>
          <a:prstGeom prst="line">
            <a:avLst/>
          </a:prstGeom>
          <a:ln w="6120">
            <a:solidFill>
              <a:srgbClr val="bebeb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0" y="3240"/>
            <a:ext cx="9137520" cy="6851520"/>
          </a:xfrm>
          <a:prstGeom prst="line">
            <a:avLst/>
          </a:prstGeom>
          <a:ln w="5040">
            <a:solidFill>
              <a:srgbClr val="b6b6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7"/>
          </p:nvPr>
        </p:nvSpPr>
        <p:spPr>
          <a:xfrm>
            <a:off x="6956280" y="6477120"/>
            <a:ext cx="2130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entury Gothic"/>
              </a:rPr>
              <a:t>11/14/0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619360" y="6321600"/>
            <a:ext cx="4260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sldNum" idx="8"/>
          </p:nvPr>
        </p:nvSpPr>
        <p:spPr>
          <a:xfrm>
            <a:off x="8449920" y="809280"/>
            <a:ext cx="500040" cy="2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BDB8F02-FD08-4016-9D98-4681CAB3281F}" type="slidenum">
              <a:rPr b="0" lang="en-GB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21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ffffff"/>
              </a:gs>
              <a:gs pos="100000">
                <a:srgbClr val="ffffff">
                  <a:alpha val="117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w="5040">
            <a:solidFill>
              <a:srgbClr val="b6b6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6465600" y="4948200"/>
            <a:ext cx="2679480" cy="1900440"/>
          </a:xfrm>
          <a:prstGeom prst="line">
            <a:avLst/>
          </a:prstGeom>
          <a:ln w="6120">
            <a:solidFill>
              <a:srgbClr val="bebeb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636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39840" indent="0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ff955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456840" y="1882440"/>
            <a:ext cx="822636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8000"/>
              </a:lnSpc>
              <a:spcBef>
                <a:spcPts val="751"/>
              </a:spcBef>
              <a:buClr>
                <a:srgbClr val="f07f09"/>
              </a:buClr>
              <a:buSzPct val="80000"/>
              <a:buFont typeface="Wingdings 2" charset="2"/>
              <a:buChar char="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739800" indent="-282600">
              <a:lnSpc>
                <a:spcPct val="98000"/>
              </a:lnSpc>
              <a:spcBef>
                <a:spcPts val="751"/>
              </a:spcBef>
              <a:buClr>
                <a:srgbClr val="f07f09"/>
              </a:buClr>
              <a:buSzPct val="95000"/>
              <a:buFont typeface="Verdana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lnSpc>
                <a:spcPct val="98000"/>
              </a:lnSpc>
              <a:spcBef>
                <a:spcPts val="751"/>
              </a:spcBef>
              <a:buClr>
                <a:srgbClr val="f07f09"/>
              </a:buClr>
              <a:buFont typeface="Wingdings 2" charset="2"/>
              <a:buChar char="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lnSpc>
                <a:spcPct val="98000"/>
              </a:lnSpc>
              <a:spcBef>
                <a:spcPts val="751"/>
              </a:spcBef>
              <a:buClr>
                <a:srgbClr val="f07f09"/>
              </a:buClr>
              <a:buFont typeface="Wingdings 2" charset="2"/>
              <a:buChar char="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lnSpc>
                <a:spcPct val="98000"/>
              </a:lnSpc>
              <a:spcBef>
                <a:spcPts val="751"/>
              </a:spcBef>
              <a:buClr>
                <a:srgbClr val="f07f09"/>
              </a:buClr>
              <a:buFont typeface="Wingdings 2" charset="2"/>
              <a:buChar char="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lnSpc>
                <a:spcPct val="98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lnSpc>
                <a:spcPct val="98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9"/>
          </p:nvPr>
        </p:nvSpPr>
        <p:spPr>
          <a:xfrm>
            <a:off x="4790880" y="6481440"/>
            <a:ext cx="213012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entury Gothic"/>
              </a:rPr>
              <a:t>11/14/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57200" y="6323040"/>
            <a:ext cx="42591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 type="sldNum" idx="10"/>
          </p:nvPr>
        </p:nvSpPr>
        <p:spPr>
          <a:xfrm>
            <a:off x="7589520" y="6481440"/>
            <a:ext cx="50004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A37016-59FB-45E5-B29E-045FA526C559}" type="slidenum">
              <a:rPr b="0" lang="en-GB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21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636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39840" indent="0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ff955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456840" y="1882440"/>
            <a:ext cx="822636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8000"/>
              </a:lnSpc>
              <a:spcBef>
                <a:spcPts val="751"/>
              </a:spcBef>
              <a:buClr>
                <a:srgbClr val="f07f09"/>
              </a:buClr>
              <a:buSzPct val="80000"/>
              <a:buFont typeface="Wingdings 2" charset="2"/>
              <a:buChar char="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739800" indent="-282600">
              <a:lnSpc>
                <a:spcPct val="98000"/>
              </a:lnSpc>
              <a:spcBef>
                <a:spcPts val="751"/>
              </a:spcBef>
              <a:buClr>
                <a:srgbClr val="f07f09"/>
              </a:buClr>
              <a:buSzPct val="95000"/>
              <a:buFont typeface="Verdana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lnSpc>
                <a:spcPct val="98000"/>
              </a:lnSpc>
              <a:spcBef>
                <a:spcPts val="751"/>
              </a:spcBef>
              <a:buClr>
                <a:srgbClr val="f07f09"/>
              </a:buClr>
              <a:buFont typeface="Wingdings 2" charset="2"/>
              <a:buChar char="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lnSpc>
                <a:spcPct val="98000"/>
              </a:lnSpc>
              <a:spcBef>
                <a:spcPts val="751"/>
              </a:spcBef>
              <a:buClr>
                <a:srgbClr val="f07f09"/>
              </a:buClr>
              <a:buFont typeface="Wingdings 2" charset="2"/>
              <a:buChar char="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lnSpc>
                <a:spcPct val="98000"/>
              </a:lnSpc>
              <a:spcBef>
                <a:spcPts val="751"/>
              </a:spcBef>
              <a:buClr>
                <a:srgbClr val="f07f09"/>
              </a:buClr>
              <a:buFont typeface="Wingdings 2" charset="2"/>
              <a:buChar char="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lnSpc>
                <a:spcPct val="98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lnSpc>
                <a:spcPct val="98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1"/>
          </p:nvPr>
        </p:nvSpPr>
        <p:spPr>
          <a:xfrm>
            <a:off x="4790880" y="6481440"/>
            <a:ext cx="212724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entury Gothic"/>
              </a:rPr>
              <a:t>11/14/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" y="6323040"/>
            <a:ext cx="4260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sldNum" idx="12"/>
          </p:nvPr>
        </p:nvSpPr>
        <p:spPr>
          <a:xfrm>
            <a:off x="7589520" y="6482880"/>
            <a:ext cx="50004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74FA88-FF5D-46D9-BEAF-6CD53DC97CCF}" type="slidenum">
              <a:rPr b="0" lang="en-GB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21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ffffff"/>
              </a:gs>
              <a:gs pos="100000">
                <a:srgbClr val="ffffff">
                  <a:alpha val="117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w="5040">
            <a:solidFill>
              <a:srgbClr val="b6b6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flipH="1">
            <a:off x="6465600" y="4948200"/>
            <a:ext cx="2679480" cy="1900440"/>
          </a:xfrm>
          <a:prstGeom prst="line">
            <a:avLst/>
          </a:prstGeom>
          <a:ln w="6120">
            <a:solidFill>
              <a:srgbClr val="bebeb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636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39840" indent="0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ff955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456840" y="1882440"/>
            <a:ext cx="822636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8000"/>
              </a:lnSpc>
              <a:spcBef>
                <a:spcPts val="751"/>
              </a:spcBef>
              <a:buClr>
                <a:srgbClr val="f07f09"/>
              </a:buClr>
              <a:buSzPct val="80000"/>
              <a:buFont typeface="Wingdings 2" charset="2"/>
              <a:buChar char="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739800" indent="-282600">
              <a:lnSpc>
                <a:spcPct val="98000"/>
              </a:lnSpc>
              <a:spcBef>
                <a:spcPts val="751"/>
              </a:spcBef>
              <a:buClr>
                <a:srgbClr val="f07f09"/>
              </a:buClr>
              <a:buSzPct val="95000"/>
              <a:buFont typeface="Verdana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lnSpc>
                <a:spcPct val="98000"/>
              </a:lnSpc>
              <a:spcBef>
                <a:spcPts val="751"/>
              </a:spcBef>
              <a:buClr>
                <a:srgbClr val="f07f09"/>
              </a:buClr>
              <a:buFont typeface="Wingdings 2" charset="2"/>
              <a:buChar char="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lnSpc>
                <a:spcPct val="98000"/>
              </a:lnSpc>
              <a:spcBef>
                <a:spcPts val="751"/>
              </a:spcBef>
              <a:buClr>
                <a:srgbClr val="f07f09"/>
              </a:buClr>
              <a:buFont typeface="Wingdings 2" charset="2"/>
              <a:buChar char="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lnSpc>
                <a:spcPct val="98000"/>
              </a:lnSpc>
              <a:spcBef>
                <a:spcPts val="751"/>
              </a:spcBef>
              <a:buClr>
                <a:srgbClr val="f07f09"/>
              </a:buClr>
              <a:buFont typeface="Wingdings 2" charset="2"/>
              <a:buChar char="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lnSpc>
                <a:spcPct val="98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lnSpc>
                <a:spcPct val="98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 type="dt" idx="13"/>
          </p:nvPr>
        </p:nvSpPr>
        <p:spPr>
          <a:xfrm>
            <a:off x="4790880" y="6481440"/>
            <a:ext cx="213012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entury Gothic"/>
              </a:rPr>
              <a:t>11/14/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57200" y="6323040"/>
            <a:ext cx="42591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sldNum" idx="14"/>
          </p:nvPr>
        </p:nvSpPr>
        <p:spPr>
          <a:xfrm>
            <a:off x="7589520" y="6481440"/>
            <a:ext cx="50004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A863FD2-7C02-444E-A864-32FC1816233F}" type="slidenum">
              <a:rPr b="0" lang="en-GB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21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ffffff"/>
              </a:gs>
              <a:gs pos="100000">
                <a:srgbClr val="ffffff">
                  <a:alpha val="117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w="5040">
            <a:solidFill>
              <a:srgbClr val="b6b6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6465600" y="4948200"/>
            <a:ext cx="2679480" cy="1900440"/>
          </a:xfrm>
          <a:prstGeom prst="line">
            <a:avLst/>
          </a:prstGeom>
          <a:ln w="6120">
            <a:solidFill>
              <a:srgbClr val="bebeb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636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39840" indent="0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ff955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882440"/>
            <a:ext cx="822636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8000"/>
              </a:lnSpc>
              <a:spcBef>
                <a:spcPts val="751"/>
              </a:spcBef>
              <a:buClr>
                <a:srgbClr val="f07f09"/>
              </a:buClr>
              <a:buSzPct val="80000"/>
              <a:buFont typeface="Wingdings 2" charset="2"/>
              <a:buChar char="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739800" indent="-282600">
              <a:lnSpc>
                <a:spcPct val="98000"/>
              </a:lnSpc>
              <a:spcBef>
                <a:spcPts val="751"/>
              </a:spcBef>
              <a:buClr>
                <a:srgbClr val="f07f09"/>
              </a:buClr>
              <a:buSzPct val="95000"/>
              <a:buFont typeface="Verdana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lnSpc>
                <a:spcPct val="98000"/>
              </a:lnSpc>
              <a:spcBef>
                <a:spcPts val="751"/>
              </a:spcBef>
              <a:buClr>
                <a:srgbClr val="f07f09"/>
              </a:buClr>
              <a:buFont typeface="Wingdings 2" charset="2"/>
              <a:buChar char="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lnSpc>
                <a:spcPct val="98000"/>
              </a:lnSpc>
              <a:spcBef>
                <a:spcPts val="751"/>
              </a:spcBef>
              <a:buClr>
                <a:srgbClr val="f07f09"/>
              </a:buClr>
              <a:buFont typeface="Wingdings 2" charset="2"/>
              <a:buChar char="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lnSpc>
                <a:spcPct val="98000"/>
              </a:lnSpc>
              <a:spcBef>
                <a:spcPts val="751"/>
              </a:spcBef>
              <a:buClr>
                <a:srgbClr val="f07f09"/>
              </a:buClr>
              <a:buFont typeface="Wingdings 2" charset="2"/>
              <a:buChar char="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lnSpc>
                <a:spcPct val="98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lnSpc>
                <a:spcPct val="98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5"/>
          </p:nvPr>
        </p:nvSpPr>
        <p:spPr>
          <a:xfrm>
            <a:off x="4790880" y="6481440"/>
            <a:ext cx="213012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entury Gothic"/>
              </a:rPr>
              <a:t>11/14/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57200" y="6323040"/>
            <a:ext cx="42591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sldNum" idx="16"/>
          </p:nvPr>
        </p:nvSpPr>
        <p:spPr>
          <a:xfrm>
            <a:off x="7589520" y="6481440"/>
            <a:ext cx="50004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1C689DB-F42A-4528-A2FE-5D62C0873100}" type="slidenum">
              <a:rPr b="0" lang="en-GB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21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636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39840" indent="0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ff955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456840" y="1882440"/>
            <a:ext cx="822636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8000"/>
              </a:lnSpc>
              <a:spcBef>
                <a:spcPts val="751"/>
              </a:spcBef>
              <a:buClr>
                <a:srgbClr val="f07f09"/>
              </a:buClr>
              <a:buSzPct val="80000"/>
              <a:buFont typeface="Wingdings 2" charset="2"/>
              <a:buChar char="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739800" indent="-282600">
              <a:lnSpc>
                <a:spcPct val="98000"/>
              </a:lnSpc>
              <a:spcBef>
                <a:spcPts val="751"/>
              </a:spcBef>
              <a:buClr>
                <a:srgbClr val="f07f09"/>
              </a:buClr>
              <a:buSzPct val="95000"/>
              <a:buFont typeface="Verdana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lnSpc>
                <a:spcPct val="98000"/>
              </a:lnSpc>
              <a:spcBef>
                <a:spcPts val="751"/>
              </a:spcBef>
              <a:buClr>
                <a:srgbClr val="f07f09"/>
              </a:buClr>
              <a:buFont typeface="Wingdings 2" charset="2"/>
              <a:buChar char="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lnSpc>
                <a:spcPct val="98000"/>
              </a:lnSpc>
              <a:spcBef>
                <a:spcPts val="751"/>
              </a:spcBef>
              <a:buClr>
                <a:srgbClr val="f07f09"/>
              </a:buClr>
              <a:buFont typeface="Wingdings 2" charset="2"/>
              <a:buChar char="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lnSpc>
                <a:spcPct val="98000"/>
              </a:lnSpc>
              <a:spcBef>
                <a:spcPts val="751"/>
              </a:spcBef>
              <a:buClr>
                <a:srgbClr val="f07f09"/>
              </a:buClr>
              <a:buFont typeface="Wingdings 2" charset="2"/>
              <a:buChar char="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lnSpc>
                <a:spcPct val="98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lnSpc>
                <a:spcPct val="98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dt" idx="17"/>
          </p:nvPr>
        </p:nvSpPr>
        <p:spPr>
          <a:xfrm>
            <a:off x="6278400" y="6555960"/>
            <a:ext cx="213048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entury Gothic"/>
              </a:rPr>
              <a:t>11/14/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135080" y="6397560"/>
            <a:ext cx="51433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sldNum" idx="18"/>
          </p:nvPr>
        </p:nvSpPr>
        <p:spPr>
          <a:xfrm>
            <a:off x="8410320" y="6555960"/>
            <a:ext cx="50004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640C5D-9F23-44CF-A5B4-B63694E5E2FF}" type="slidenum">
              <a:rPr b="0" lang="en-GB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457200" y="1371600"/>
            <a:ext cx="8229600" cy="508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1920">
              <a:lnSpc>
                <a:spcPct val="200000"/>
              </a:lnSpc>
              <a:spcBef>
                <a:spcPts val="550"/>
              </a:spcBef>
              <a:buClr>
                <a:srgbClr val="f07f09"/>
              </a:buClr>
              <a:buSzPct val="80000"/>
              <a:buFont typeface="Wingdings 2" charset="2"/>
              <a:buChar char=""/>
              <a:tabLst>
                <a:tab algn="l" pos="61920"/>
                <a:tab algn="l" pos="519120"/>
                <a:tab algn="l" pos="976320"/>
                <a:tab algn="l" pos="1433520"/>
                <a:tab algn="l" pos="1890720"/>
                <a:tab algn="l" pos="2347920"/>
                <a:tab algn="l" pos="2805120"/>
                <a:tab algn="l" pos="3262320"/>
                <a:tab algn="l" pos="3719520"/>
                <a:tab algn="l" pos="4176720"/>
                <a:tab algn="l" pos="4633920"/>
                <a:tab algn="l" pos="5091120"/>
                <a:tab algn="l" pos="5548320"/>
                <a:tab algn="l" pos="6005520"/>
                <a:tab algn="l" pos="6462720"/>
                <a:tab algn="l" pos="6919920"/>
                <a:tab algn="l" pos="7377120"/>
                <a:tab algn="l" pos="7834320"/>
                <a:tab algn="l" pos="8291520"/>
                <a:tab algn="l" pos="8748720"/>
                <a:tab algn="l" pos="920592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Century Gothic"/>
              </a:rPr>
              <a:t>Turn dead inventory into cas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1920">
              <a:lnSpc>
                <a:spcPct val="200000"/>
              </a:lnSpc>
              <a:spcBef>
                <a:spcPts val="550"/>
              </a:spcBef>
              <a:buClr>
                <a:srgbClr val="f07f09"/>
              </a:buClr>
              <a:buSzPct val="80000"/>
              <a:buFont typeface="Wingdings 2" charset="2"/>
              <a:buChar char=""/>
              <a:tabLst>
                <a:tab algn="l" pos="61920"/>
                <a:tab algn="l" pos="519120"/>
                <a:tab algn="l" pos="976320"/>
                <a:tab algn="l" pos="1433520"/>
                <a:tab algn="l" pos="1890720"/>
                <a:tab algn="l" pos="2347920"/>
                <a:tab algn="l" pos="2805120"/>
                <a:tab algn="l" pos="3262320"/>
                <a:tab algn="l" pos="3719520"/>
                <a:tab algn="l" pos="4176720"/>
                <a:tab algn="l" pos="4633920"/>
                <a:tab algn="l" pos="5091120"/>
                <a:tab algn="l" pos="5548320"/>
                <a:tab algn="l" pos="6005520"/>
                <a:tab algn="l" pos="6462720"/>
                <a:tab algn="l" pos="6919920"/>
                <a:tab algn="l" pos="7377120"/>
                <a:tab algn="l" pos="7834320"/>
                <a:tab algn="l" pos="8291520"/>
                <a:tab algn="l" pos="8748720"/>
                <a:tab algn="l" pos="920592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Century Gothic"/>
              </a:rPr>
              <a:t>Turn undead inventory into unstoppable fighting forc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1920">
              <a:lnSpc>
                <a:spcPct val="200000"/>
              </a:lnSpc>
              <a:spcBef>
                <a:spcPts val="550"/>
              </a:spcBef>
              <a:buClr>
                <a:srgbClr val="f07f09"/>
              </a:buClr>
              <a:buSzPct val="80000"/>
              <a:buFont typeface="Wingdings 2" charset="2"/>
              <a:buChar char=""/>
              <a:tabLst>
                <a:tab algn="l" pos="61920"/>
                <a:tab algn="l" pos="519120"/>
                <a:tab algn="l" pos="976320"/>
                <a:tab algn="l" pos="1433520"/>
                <a:tab algn="l" pos="1890720"/>
                <a:tab algn="l" pos="2347920"/>
                <a:tab algn="l" pos="2805120"/>
                <a:tab algn="l" pos="3262320"/>
                <a:tab algn="l" pos="3719520"/>
                <a:tab algn="l" pos="4176720"/>
                <a:tab algn="l" pos="4633920"/>
                <a:tab algn="l" pos="5091120"/>
                <a:tab algn="l" pos="5548320"/>
                <a:tab algn="l" pos="6005520"/>
                <a:tab algn="l" pos="6462720"/>
                <a:tab algn="l" pos="6919920"/>
                <a:tab algn="l" pos="7377120"/>
                <a:tab algn="l" pos="7834320"/>
                <a:tab algn="l" pos="8291520"/>
                <a:tab algn="l" pos="8748720"/>
                <a:tab algn="l" pos="920592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Century Gothic"/>
              </a:rPr>
              <a:t>Ambushing Girl Scouts for cookie mone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1920">
              <a:lnSpc>
                <a:spcPct val="200000"/>
              </a:lnSpc>
              <a:spcBef>
                <a:spcPts val="550"/>
              </a:spcBef>
              <a:buClr>
                <a:srgbClr val="f07f09"/>
              </a:buClr>
              <a:buSzPct val="80000"/>
              <a:buFont typeface="Wingdings 2" charset="2"/>
              <a:buChar char=""/>
              <a:tabLst>
                <a:tab algn="l" pos="61920"/>
                <a:tab algn="l" pos="519120"/>
                <a:tab algn="l" pos="976320"/>
                <a:tab algn="l" pos="1433520"/>
                <a:tab algn="l" pos="1890720"/>
                <a:tab algn="l" pos="2347920"/>
                <a:tab algn="l" pos="2805120"/>
                <a:tab algn="l" pos="3262320"/>
                <a:tab algn="l" pos="3719520"/>
                <a:tab algn="l" pos="4176720"/>
                <a:tab algn="l" pos="4633920"/>
                <a:tab algn="l" pos="5091120"/>
                <a:tab algn="l" pos="5548320"/>
                <a:tab algn="l" pos="6005520"/>
                <a:tab algn="l" pos="6462720"/>
                <a:tab algn="l" pos="6919920"/>
                <a:tab algn="l" pos="7377120"/>
                <a:tab algn="l" pos="7834320"/>
                <a:tab algn="l" pos="8291520"/>
                <a:tab algn="l" pos="8748720"/>
                <a:tab algn="l" pos="920592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Century Gothic"/>
              </a:rPr>
              <a:t>Cock fight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1920">
              <a:lnSpc>
                <a:spcPct val="200000"/>
              </a:lnSpc>
              <a:spcBef>
                <a:spcPts val="550"/>
              </a:spcBef>
              <a:buClr>
                <a:srgbClr val="f07f09"/>
              </a:buClr>
              <a:buSzPct val="80000"/>
              <a:buFont typeface="Wingdings 2" charset="2"/>
              <a:buChar char=""/>
              <a:tabLst>
                <a:tab algn="l" pos="61920"/>
                <a:tab algn="l" pos="519120"/>
                <a:tab algn="l" pos="976320"/>
                <a:tab algn="l" pos="1433520"/>
                <a:tab algn="l" pos="1890720"/>
                <a:tab algn="l" pos="2347920"/>
                <a:tab algn="l" pos="2805120"/>
                <a:tab algn="l" pos="3262320"/>
                <a:tab algn="l" pos="3719520"/>
                <a:tab algn="l" pos="4176720"/>
                <a:tab algn="l" pos="4633920"/>
                <a:tab algn="l" pos="5091120"/>
                <a:tab algn="l" pos="5548320"/>
                <a:tab algn="l" pos="6005520"/>
                <a:tab algn="l" pos="6462720"/>
                <a:tab algn="l" pos="6919920"/>
                <a:tab algn="l" pos="7377120"/>
                <a:tab algn="l" pos="7834320"/>
                <a:tab algn="l" pos="8291520"/>
                <a:tab algn="l" pos="8748720"/>
                <a:tab algn="l" pos="920592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Century Gothic"/>
              </a:rPr>
              <a:t>Melting employees down for scrap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457200" y="457200"/>
            <a:ext cx="6105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Unexploited Profit Center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Ric</dc:creator>
  <dc:description/>
  <dc:language>en-US</dc:language>
  <cp:lastModifiedBy>Mediac</cp:lastModifiedBy>
  <cp:revision>0</cp:revision>
  <dc:subject/>
  <dc:title>PRESENTATION NAME</dc:title>
</cp:coreProperties>
</file>